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7.wmf" ContentType="image/x-wmf"/>
  <Override PartName="/ppt/media/image9.wmf" ContentType="image/x-wmf"/>
  <Override PartName="/ppt/media/image14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.jpeg" ContentType="image/jpeg"/>
  <Override PartName="/ppt/media/image13.wmf" ContentType="image/x-wmf"/>
  <Override PartName="/ppt/media/image5.png" ContentType="image/png"/>
  <Override PartName="/ppt/media/image2.jpeg" ContentType="image/jpeg"/>
  <Override PartName="/ppt/media/image3.jpeg" ContentType="image/jpeg"/>
  <Override PartName="/ppt/media/image6.png" ContentType="image/png"/>
  <Override PartName="/ppt/media/image4.jpeg" ContentType="image/jpeg"/>
  <Override PartName="/ppt/media/image10.wmf" ContentType="image/x-wmf"/>
  <Override PartName="/ppt/media/image11.png" ContentType="image/png"/>
  <Override PartName="/ppt/media/image8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0D16-3732-47A3-9F7F-1F43FAE8D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5ADB-F51C-4139-BA42-F3CAA46F1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236C-81D9-4EAF-88C8-154EAFB06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8EBE-6FB9-4A14-AB34-2E09B3B03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B7254-B779-4068-944A-A7339A42D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BA31-0263-49AD-BF38-F17433029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D2661-E447-45DC-A59F-198DE957D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C03DC-8701-4A73-8CF4-0B61368CD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5BF8-6F9A-4EC3-944D-8A3D9AB44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2CF5-1EE2-4B1E-B4AA-B35862620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82A9-F96D-43AD-84C9-5F505966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9FB64-A65A-439F-A4CB-FEDBF8C75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0A20-D944-4430-87B6-6B053444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AA384-B0E8-41A6-AB48-72F6F46E2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12C17-4794-4274-A014-C2A849047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1CC67-EDE5-4BF6-B93C-B58B1F789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7DAB1-EE64-428B-AF51-FB7E525FD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B29597-A3DE-4242-B586-13673CE72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5A08FF-12C2-406B-AC99-ADA82408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A5ADB5-5BD6-4EF4-BCD8-B5926A7A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BD082-7A8C-46F6-B290-CA71D7B98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5D353-EC61-4A06-A146-61820417B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AF323-B414-41C2-8C14-9CC50767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ED343-D45A-4314-A310-19B2450E8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0857B-C21B-40CE-BA60-688769D1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A7B7C-0E68-4098-AEA2-7AC2D41E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D5684-6B6E-4043-8D6A-D7A8C7A5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5FAEEC-EAD5-4AEF-A8C8-8A3C44731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5470B-6537-4820-AAC4-DE7C1322B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A0F48-6C10-4BF6-A572-07E67DC34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0052-43BE-4AE7-A8CC-30C083F67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3B9B-31A5-4CF8-ACEB-B2D3406F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33DA-046D-4ADD-A0FA-5F10B8DB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B585A-76D5-474A-9CAE-91890E81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DEC0-22AE-4F05-B867-56E3CFE0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3B99-857F-4195-B322-27055E66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3418-809A-4EA2-B863-59DAA8EAED19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9" descr="T:\Contacto\Health\DGS\Concurso Público\Propostas Criativas\U\Template ppt\bases\7542_DGS_powerpoint_capa-0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C3DB3-0417-4678-9EA0-1EEF34056A68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8" descr="T:\Contacto\Health\DGS\Concurso Público\Propostas Criativas\U\Template ppt\bases\7542_DGS_powerpoint_02-07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3682F-D1EC-4FFA-BD7B-19D0955C85CC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Picture 8" descr="T:\Contacto\Health\DGS\Concurso Público\Propostas Criativas\U\Template ppt\bases\7542_DGS_powerpoint_02-06.jpg"/>
          <p:cNvPicPr/>
          <p:nvPr/>
        </p:nvPicPr>
        <p:blipFill>
          <a:blip r:embed="rId2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CaixaDeTexto 3"/>
          <p:cNvSpPr/>
          <p:nvPr/>
        </p:nvSpPr>
        <p:spPr>
          <a:xfrm>
            <a:off x="1643040" y="1846440"/>
            <a:ext cx="68230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47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3c3c3c"/>
                </a:solidFill>
                <a:latin typeface="Open Sans"/>
              </a:rPr>
              <a:t>PRECAUÇÕES BÁSICAS de CONTROLO DE INFEÇÃO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4799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984807"/>
                </a:solidFill>
                <a:latin typeface="Narkisim"/>
                <a:ea typeface="Narkisim"/>
              </a:rPr>
              <a:t>Avaliação do Risco Individual do Doente para a Infe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CaixaDeTexto 4"/>
          <p:cNvSpPr/>
          <p:nvPr/>
        </p:nvSpPr>
        <p:spPr>
          <a:xfrm>
            <a:off x="4157640" y="4589640"/>
            <a:ext cx="4630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500" spc="-1" strike="noStrike">
                <a:solidFill>
                  <a:srgbClr val="3c3c3c"/>
                </a:solidFill>
                <a:latin typeface="Open Sans"/>
              </a:rPr>
              <a:t>PPCIRA: CURSO PBCI/PBVT - </a:t>
            </a:r>
            <a:r>
              <a:rPr b="1" lang="pt-PT" sz="1400" spc="-1" strike="noStrike">
                <a:solidFill>
                  <a:srgbClr val="3c3c3c"/>
                </a:solidFill>
                <a:latin typeface="Open Sans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 avaliação do risco de infeção: 2 verten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1255680" y="2169720"/>
            <a:ext cx="7431120" cy="395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o hospedeiro suscetível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Fatores de risco intrínseco e extrínseco que o tornam mais vulnerável/suscetível à infeção: doença crónica; múltiplos procedimentos e dispositivos invasivos; internamentos recentes e sucessivos; idade avançada &gt; 65 anos ...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mo fonte ou reservatório de infeção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ituação clínica de colonização ou infeção (ativa ou presumida), representando risco de transmissão cruzada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Por vezes, as 2 situações!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380880" y="2171520"/>
            <a:ext cx="8763120" cy="4686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 avaliação inicial do risco para a infeção,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é o 1.º passo para o planeamento, implementação e avaliação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das medidas de PCI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eve ser feita </a:t>
            </a: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antes da interação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m o doente ou com o seu ambiente envolvente.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ermite aos PS dirigir as intervenções necessárias para prevenir a  transmissão cruzada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o longo do internamento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reconhecer os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ocedimentos com &gt; risco para os doentes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,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mudança do padrão clínico/ &gt; da suscetibilidade à infeçã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e os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sinais/sintomas de infeção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que possam ser determinantes no planeamento dos cuidados seguros.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individu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4720"/>
            <a:ext cx="8229600" cy="91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 avaliação do risco de IH: 2 vertent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55320" y="2170080"/>
            <a:ext cx="7659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ara estratificar os níveis de risco do doente para a infeção: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Modelo de risco diferencial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Open San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Situação clinica do doente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Open Sans"/>
              <a:buAutoNum type="roman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Tipo de procedimentos a efetuar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 forma qualitativa podemos apurar um de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três níveis de risc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ínim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Médi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2" marL="1314360" indent="-514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levad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63080"/>
            <a:ext cx="8229600" cy="6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Risco diferencial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8" name="Object 11"/>
          <p:cNvGraphicFramePr/>
          <p:nvPr/>
        </p:nvGraphicFramePr>
        <p:xfrm>
          <a:off x="803160" y="860400"/>
          <a:ext cx="9323640" cy="574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Object 1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03160" y="860400"/>
                    <a:ext cx="9323640" cy="57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4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ÇÃO DAS MEDID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tretch/>
        </p:blipFill>
        <p:spPr>
          <a:xfrm>
            <a:off x="704880" y="819000"/>
            <a:ext cx="7620120" cy="29131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"/>
          <p:cNvPicPr/>
          <p:nvPr/>
        </p:nvPicPr>
        <p:blipFill>
          <a:blip r:embed="rId2"/>
          <a:stretch/>
        </p:blipFill>
        <p:spPr>
          <a:xfrm>
            <a:off x="685800" y="3467160"/>
            <a:ext cx="7658280" cy="31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PLANO DE INTERVENÇÃO NOS DOENTES COM INFECÇÃ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09480" y="2171520"/>
            <a:ext cx="8305920" cy="46861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 todo o doente em que é identificada uma infeção/colonização, confirmada ou presumida, deve ser elaborado um </a:t>
            </a: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plano de cuidados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, com as intervenções apropriadas, principalmente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nas situações em que é possível a transmissão secundária do microrganismo a outros doentes, profissionais, visitantes e sua disseminação no ambiente. 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5" name="Conexão recta 4"/>
          <p:cNvSpPr/>
          <p:nvPr/>
        </p:nvSpPr>
        <p:spPr>
          <a:xfrm>
            <a:off x="1295280" y="3848040"/>
            <a:ext cx="626760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Conexão recta 6"/>
          <p:cNvSpPr/>
          <p:nvPr/>
        </p:nvSpPr>
        <p:spPr>
          <a:xfrm>
            <a:off x="1486080" y="3333600"/>
            <a:ext cx="725796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QUESTÕES PARA OPLANO DE INTERVENÇÃO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28200" y="2064960"/>
            <a:ext cx="8286840" cy="47084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ctr">
            <a:norm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oloca</a:t>
            </a:r>
            <a:r>
              <a:rPr b="1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1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do doente 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(tipo de isolamento, se nece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o)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 isolamento de contact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suficiente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não, o doente necessita de isolamento de conten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ou de prot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, ou dos  tipos de isolamento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O doente necessita de quarto individual com casa de banho?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on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para implementar esta medida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nece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io quarto com ventil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 controlada (pressão negativa - se patologia ou microrganismo for pass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el de transmissão por via 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é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ea ou got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ulas)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condi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para implementar esta medida?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e 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mais do que um doente com a mesma patologia infeciosa ou o mesmo microrganismo 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“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ler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e não h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á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quarto individual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solar os doentes em Coorte 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- Outras questões, d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ú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vidas ou necessidade de orienta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ões espec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í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ficas (ex: suspeita de surto de infe</a:t>
            </a:r>
            <a:r>
              <a:rPr b="0" lang="pt-P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ç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ão):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contactar o GCL-PPCIRA</a:t>
            </a:r>
            <a:r>
              <a:rPr b="0" lang="pt-PT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9" name="Rectângulo 3"/>
          <p:cNvSpPr/>
          <p:nvPr/>
        </p:nvSpPr>
        <p:spPr>
          <a:xfrm>
            <a:off x="838080" y="876240"/>
            <a:ext cx="8305920" cy="5205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000000"/>
                </a:solidFill>
                <a:latin typeface="Arial"/>
              </a:rPr>
              <a:t>Aplicação das PBCI a todos os doente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3" descr=""/>
          <p:cNvPicPr/>
          <p:nvPr/>
        </p:nvPicPr>
        <p:blipFill>
          <a:blip r:embed="rId1"/>
          <a:stretch/>
        </p:blipFill>
        <p:spPr>
          <a:xfrm>
            <a:off x="55440" y="0"/>
            <a:ext cx="90331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81" name=""/>
          <p:cNvGraphicFramePr/>
          <p:nvPr/>
        </p:nvGraphicFramePr>
        <p:xfrm>
          <a:off x="5676840" y="657360"/>
          <a:ext cx="3301920" cy="5730840"/>
        </p:xfrm>
        <a:graphic>
          <a:graphicData uri="http://schemas.openxmlformats.org/drawingml/2006/table">
            <a:tbl>
              <a:tblPr/>
              <a:tblGrid>
                <a:gridCol w="906480"/>
                <a:gridCol w="2395440"/>
              </a:tblGrid>
              <a:tr h="29797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mplementar o plano de ação para reduzir os risco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Estabelecer prioridade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ar os fatores de risco encontrados e as ações proposta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Identificar o (s) responsável (s) pelo plano e sua implemen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egistar a data de avaliação do risco no formulári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511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Definir a periodicidade de reavaliação do risc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.ª reavaliação - às 72 horas, após a 1.ª ou a inicial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 </a:t>
                      </a: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Semanal, e sempre que haja mudança do padrão de risco do doen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A última avaliação é feita à saída do doente e deve constar na carta de alta/transferênci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Rectângulo 6"/>
          <p:cNvSpPr/>
          <p:nvPr/>
        </p:nvSpPr>
        <p:spPr>
          <a:xfrm>
            <a:off x="5540400" y="0"/>
            <a:ext cx="3603600" cy="682560"/>
          </a:xfrm>
          <a:prstGeom prst="rect">
            <a:avLst/>
          </a:prstGeom>
          <a:solidFill>
            <a:srgbClr val="e46c0a"/>
          </a:solidFill>
          <a:ln w="255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Open Sans"/>
              </a:rPr>
              <a:t>RESUMO: ETAPAS DA AVALIAÇÃO DE RIS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4" descr=""/>
          <p:cNvPicPr/>
          <p:nvPr/>
        </p:nvPicPr>
        <p:blipFill>
          <a:blip r:embed="rId1"/>
          <a:stretch/>
        </p:blipFill>
        <p:spPr>
          <a:xfrm>
            <a:off x="1289160" y="0"/>
            <a:ext cx="656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1"/>
          <a:stretch/>
        </p:blipFill>
        <p:spPr>
          <a:xfrm>
            <a:off x="1162080" y="0"/>
            <a:ext cx="681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Box 3"/>
          <p:cNvSpPr/>
          <p:nvPr/>
        </p:nvSpPr>
        <p:spPr>
          <a:xfrm>
            <a:off x="1200240" y="341280"/>
            <a:ext cx="603252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  <a:ea typeface="Arial"/>
              </a:rPr>
              <a:t>Implementação das Precauções Básic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  <a:ea typeface="Arial"/>
              </a:rPr>
              <a:t>de Controlo de Infe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6"/>
          <p:cNvSpPr/>
          <p:nvPr/>
        </p:nvSpPr>
        <p:spPr>
          <a:xfrm>
            <a:off x="1333440" y="1403280"/>
            <a:ext cx="7556400" cy="48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Objetivo: </a:t>
            </a:r>
            <a:r>
              <a:rPr b="1" lang="en-US" sz="2000" spc="-1" strike="noStrike">
                <a:solidFill>
                  <a:srgbClr val="002060"/>
                </a:solidFill>
                <a:latin typeface="Open Sans"/>
                <a:ea typeface="Arial"/>
              </a:rPr>
              <a:t>Abordar, no âmbito das Precauções básicas de controlo de infeção (PBCI), a Avaliação do Risco Individual do Doente para a Infe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Estrutura da Apresenta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Revisão breve dos conceit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Nor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Metodologia de Avaliação do Risco Individual do Doente para a Infe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ba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  </a:t>
            </a:r>
            <a:r>
              <a:rPr b="1" lang="en-US" sz="1800" spc="-1" strike="noStrike">
                <a:solidFill>
                  <a:srgbClr val="002060"/>
                </a:solidFill>
                <a:latin typeface="Open Sans"/>
                <a:ea typeface="Arial"/>
              </a:rPr>
              <a:t>Conclus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70c0"/>
                </a:solidFill>
                <a:latin typeface="Open Sans"/>
                <a:ea typeface="Arial"/>
              </a:rPr>
              <a:t>Duração: </a:t>
            </a:r>
            <a:r>
              <a:rPr b="0" lang="en-US" sz="1600" spc="-1" strike="noStrike">
                <a:solidFill>
                  <a:srgbClr val="000000"/>
                </a:solidFill>
                <a:latin typeface="Open Sans"/>
                <a:ea typeface="Arial"/>
              </a:rPr>
              <a:t>15 minutos de apresentação / 5 minutos de discussão fi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Marcador de Posição do Número do Diapositivo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24AE-3EFD-44B4-96A4-475F9781CD28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em 5" descr="Logo_Departamento da Qualidade na Saúde.jpg"/>
          <p:cNvPicPr/>
          <p:nvPr/>
        </p:nvPicPr>
        <p:blipFill>
          <a:blip r:embed="rId1"/>
          <a:stretch/>
        </p:blipFill>
        <p:spPr>
          <a:xfrm>
            <a:off x="7170840" y="0"/>
            <a:ext cx="196992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7200" y="1238400"/>
            <a:ext cx="8362800" cy="561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Medidas de controlo ambiental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– aumento de frequência de limpeza e desinfeção (se necessário) e da desinfeção complementar (ex: </a:t>
            </a:r>
            <a:r>
              <a:rPr b="0" i="1" lang="pt-PT" sz="2000" spc="-1" strike="noStrike">
                <a:solidFill>
                  <a:srgbClr val="000000"/>
                </a:solidFill>
                <a:latin typeface="Open Sans"/>
              </a:rPr>
              <a:t>Clostridium difficile, MRSA, Acinetobacter…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Máscara de proteção respiratória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(EN 149:2001 FFP2) – para proteção dos profissionais - se o agente suspeito/ confirmado for passível de transmissão por via aérea e por gotículas (ex: tuberculose pulmonar ativa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Luvas e bata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para proteção total do profissional no caso de doente com escabiose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strição de profissionais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– evitar a exposição dos profissionais se não estão imunizados (ex: varicela, rubéola, sarampo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238400"/>
            <a:ext cx="8362800" cy="5619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strição de visitas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m situações específicas, pode ser necessário &lt; o n.º de visitas (ex: doente com microrganismo alerta/problema ou em caso de surto de infeção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Planeamento do transporte: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garantir as medidas durante o transporte, sempre que o doente se deslocar para fora do serviço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Imunização/ profilaxia após exposição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não protegida dos indivíduos suscetíveis (ex: meningite meningocócica, varicela, sarampo e varíola)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Imunização dos profissionais de saúde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cumprir o plano vacinal de acordo com as indicações do SHSST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35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Após avaliação do risco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990720"/>
            <a:ext cx="8362800" cy="5867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Verificar se é uma infeção/doença de declaração obrigatória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: Enviar a Declaração Obrigatória de Doenças Transmissíveis da DG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Reportar os casos de infeção/colonização ao GCL-PPCIR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: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oente admitido já com infeção ativa ou colonização (incluindo as transmissíveis)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Doente com infeção adquirida no hospital ou suspeita de colonização: reportar ao GCL-PPCIRA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stes dados são também relevantes para o plano de VE de cada Hospital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Outras questões ou dúvidas que possam surgir: </a:t>
            </a:r>
            <a:r>
              <a:rPr b="1" lang="pt-PT" sz="2000" spc="-1" strike="noStrike" u="sng">
                <a:solidFill>
                  <a:srgbClr val="000000"/>
                </a:solidFill>
                <a:uFillTx/>
                <a:latin typeface="Open Sans"/>
              </a:rPr>
              <a:t>contactar o GCL-PPCIRA do Hospital/outra US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ângulo 1"/>
          <p:cNvSpPr/>
          <p:nvPr/>
        </p:nvSpPr>
        <p:spPr>
          <a:xfrm>
            <a:off x="1095480" y="371520"/>
            <a:ext cx="70387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tapas da Avaliação do Risco de Inf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028880" y="820800"/>
          <a:ext cx="7981920" cy="5732280"/>
        </p:xfrm>
        <a:graphic>
          <a:graphicData uri="http://schemas.openxmlformats.org/drawingml/2006/table">
            <a:tbl>
              <a:tblPr/>
              <a:tblGrid>
                <a:gridCol w="1047600"/>
                <a:gridCol w="6934320"/>
              </a:tblGrid>
              <a:tr h="245880"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Etap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  <a:tc>
                  <a:txBody>
                    <a:bodyPr lIns="47160" rIns="471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333333"/>
                          </a:solidFill>
                          <a:latin typeface="Arial"/>
                          <a:ea typeface="Times New Roman"/>
                        </a:rPr>
                        <a:t>Descri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abf8f"/>
                    </a:solidFill>
                  </a:tcPr>
                </a:tc>
              </a:tr>
              <a:tr h="146376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o risco de infeção na admis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completar até às 24 horas de internamento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o ser admitido, o doente tem já uma infeção ativa ou suspeit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 a probabilidade do doente adquirir inf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m está exposto aos fatores de risco – o próprio doente, outros doentes, os profissionais de saúde, os visitantes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l é o agente infecioso em causa (caso haja já conhecimento ou suspeita do estado infecioso do doente)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1828800"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ar a exposição ao fator de risco de infeçã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doente tem fatores de risco de inf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inais e sintomas de infeç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ça de sangue e matéria orgânic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cedimentos invasivos a realiz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 doente tem fatores de risco adicionais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ternamento em áreas de alto risco (UCI, Queimados, Hematologia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unossupressã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últiplos dispositivos invasiv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fecção ativa ou presumi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2193840">
                <a:tc>
                  <a:txBody>
                    <a:bodyPr lIns="47160" rIns="471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47160" rIns="471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as medidas a implementar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lamento em quarto individual? Se sim, é de contenção ou de proteção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solamento de Coorte?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arto com ventilação com pressão negativa ou positiv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locar o doente na unidade de internamento, com base na avaliação do risco e os recursos disponívei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auções Básicas – em todos os procedimentos e em todos os doent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cauções dependentes das vias de transmissão - avaliar quais as precauções adicionais a implementar, de acordo com o microrganismo/patologia em causa?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ntac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Gotícula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ére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7160" marR="471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ângulo 1"/>
          <p:cNvSpPr/>
          <p:nvPr/>
        </p:nvSpPr>
        <p:spPr>
          <a:xfrm>
            <a:off x="1095480" y="371520"/>
            <a:ext cx="5878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Arial"/>
                <a:ea typeface="Arial"/>
              </a:rPr>
              <a:t>Etapas da Avaliação do Risco de Infeçã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803240" y="1847880"/>
          <a:ext cx="6874200" cy="3343320"/>
        </p:xfrm>
        <a:graphic>
          <a:graphicData uri="http://schemas.openxmlformats.org/drawingml/2006/table">
            <a:tbl>
              <a:tblPr/>
              <a:tblGrid>
                <a:gridCol w="1887840"/>
                <a:gridCol w="4986360"/>
              </a:tblGrid>
              <a:tr h="1736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mplementar o um plano de ação para reduzir os riscos e estabelecer prioridades nos procedimentos com base na sua importância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ar os fatores de risco encontrados e as ações propostas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dentificar o (s) responsável (s) pelo plano e sua implementação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gistar a data de implementação no processo clínico.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06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1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TAPA 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efinir a periodicidade de reavaliação do risco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imeira reavaliação às 72/96 ho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empre que haja mudança do padrão de risco do do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000000"/>
                        </a:buClr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elo menos uma vez por semana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just">
                        <a:buClr>
                          <a:srgbClr val="000000"/>
                        </a:buClr>
                        <a:buFont typeface="Symbol" charset="2"/>
                        <a:buChar char="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 última avaliação deve constar na carta de alta/transferência do doente</a:t>
                      </a:r>
                      <a:r>
                        <a:rPr b="0" lang="pt-PT" sz="1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457200" y="256680"/>
            <a:ext cx="8229600" cy="5743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o avaliar o risco dos doentes para a infeção, os profissionais devem incluir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)Presença de fatores de risco extrínseco e intrínseco dos doentes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avaliação da vulnerabilidade dos doentes): Algália, Cateter intravascular central; Cateter vascular periférico; Cirurgia, Drenagens; Ventilação mecânica; Procedimentos invasivos não cirúrgicos (técnicas endoscópicas ou técnicas de substituição renal); Outros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 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b)Se há infeção ativa ou suspeita, ou colonização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(prevenção da transmissão cruzada na Unidade + avaliação da vulnerabilidade do doente e dos que estão próximos deste + proteção dos profissionais)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ocalização da infeção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Urinária; Respiratória, Corrente sanguínea; Local cirúrgico; Intra-abdominal; Gastrintestinal; Meníngea; Pele e tecidos moles; Osteoarticular; Outras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79520"/>
            <a:ext cx="8229600" cy="12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de exposição dos profissionais: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371240"/>
            <a:ext cx="8524800" cy="5295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Avaliação individual que cada profissional faz antes da interação com o doente e, de acordo com a situação clínica do mesmo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- Deve prever o risco de: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Contaminação da pele ou fardamento por microrganismos do ambiente do doente;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sangue, outros fluidos orgânicos, secreções, excreções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pele não intacta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mucosas; 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xposição a superfícies ou equipamentos contaminados.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4"/>
          <p:cNvSpPr/>
          <p:nvPr/>
        </p:nvSpPr>
        <p:spPr>
          <a:xfrm>
            <a:off x="619200" y="209520"/>
            <a:ext cx="64292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rupos de Medidas de Prevenção 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rolo da transmiss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ruzada da Infe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5"/>
          <p:cNvSpPr/>
          <p:nvPr/>
        </p:nvSpPr>
        <p:spPr>
          <a:xfrm>
            <a:off x="676440" y="1666800"/>
            <a:ext cx="82008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loquear a passagem de colonização a infeçã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r medidas relativas à exposição desnecessária dos doentes a dispositivos inva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mover o uso racional de antimicrobia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.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teger/modificar o risco do hospedeir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mar medidas para identificação e proteção dos doentes mais suscetívei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segurar o diagnóstico e tratamento precoces da infeçã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2120" indent="-288000" algn="just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escrever antibióticos de forma racional/assertiv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ângulo 2"/>
          <p:cNvSpPr/>
          <p:nvPr/>
        </p:nvSpPr>
        <p:spPr>
          <a:xfrm>
            <a:off x="771480" y="1352520"/>
            <a:ext cx="8096400" cy="522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dotar a avaliação de risco de infeção organizacional e individ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dentificar as práticas de CI inseguras, desnecessárias e inefic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r mais PROACTIVO e menos reativo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Gastar algum tempo do dia  ou da semana para PENSAR em como se poderá encontrar uma direção estratégica para a Organiz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alisar os dados de vigilância epidemiológica da infeção da Unidade de Saúde, e os dados obtidos através das auditorias e eventos adve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nalisar a informação, identificar os PROBLEMAS-CHAVE e os alv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iorizar as ações usando o princípio de Pareto (80/20)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laborar um plano de ação e apontar soluções, com base nas necessidades locais e recur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mplementar soluções simples e eficazes, que sejam exequívei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ângulo 3"/>
          <p:cNvSpPr/>
          <p:nvPr/>
        </p:nvSpPr>
        <p:spPr>
          <a:xfrm>
            <a:off x="942840" y="533520"/>
            <a:ext cx="5781960" cy="733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CONCLUSÕ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608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Avaliação do risco de exposição dos profissionais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6840" y="1677960"/>
            <a:ext cx="8124840" cy="49896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59000"/>
          </a:bodyPr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Nas situações de possível risco de transmissão cruzada,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é recomendado em cada avaliação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Determinar o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tipo de isolamento necessário ao doent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, com base na avaliação do risco e na sua exequibilidade, e de acordo com as infraestruturas e recursos existentes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Isolamento </a:t>
            </a:r>
            <a:r>
              <a:rPr b="1" lang="pt-PT" sz="1800" spc="-1" strike="noStrike" u="sng">
                <a:solidFill>
                  <a:srgbClr val="000000"/>
                </a:solidFill>
                <a:uFillTx/>
                <a:latin typeface="Open Sans"/>
              </a:rPr>
              <a:t>estrito ou individual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quarto individual com casa de banho);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Coorte;  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438120" indent="-168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De contact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Definir as medidas de intervenção necessárias para prevenir a transmissão durante a interação planeada - inclui a seleção e uso adequados dos EPI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 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202320" indent="-2023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5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371600" y="1800360"/>
            <a:ext cx="7439040" cy="43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Perigo (Hazard)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finido como algo com potencial de causar dano: ex: microrganismos, desinfetantes e antisséticos…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Risco (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Risk)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definido como a probabilidade de um dano, a partir do perigo…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Infeção adquirida pelos profissionais de saúde decorrente de exposição a sangue/outros fluidos orgânicos, material cortoperfurante, desinfetantes em ambiente não ou mal ventilado…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– 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Risco de infeção cruzada para os doentes, visitantes e profissionais de saúde, relacionados com falhas  no isolamento do doente ou no cumprimentos das boas práticas nos procedimentos clínicos…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Reutilização de materiais e equipamentos clínicos e não clínicos entre doentes sem serem submetidos a um processo adequado de  descontaminação….</a:t>
            </a: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18960" indent="-31896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8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Imagem 1" descr=""/>
          <p:cNvPicPr/>
          <p:nvPr/>
        </p:nvPicPr>
        <p:blipFill>
          <a:blip r:embed="rId1"/>
          <a:stretch/>
        </p:blipFill>
        <p:spPr>
          <a:xfrm>
            <a:off x="2023920" y="195120"/>
            <a:ext cx="5770800" cy="648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590400"/>
            <a:ext cx="8229600" cy="8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7" name="Rectângulo 40"/>
          <p:cNvSpPr/>
          <p:nvPr/>
        </p:nvSpPr>
        <p:spPr>
          <a:xfrm>
            <a:off x="1552680" y="0"/>
            <a:ext cx="6924600" cy="5619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lgoritmo de Avaliação de Risco para o Profission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2111400" y="492120"/>
            <a:ext cx="5291280" cy="63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8" descr=""/>
          <p:cNvPicPr/>
          <p:nvPr/>
        </p:nvPicPr>
        <p:blipFill>
          <a:blip r:embed="rId1"/>
          <a:stretch/>
        </p:blipFill>
        <p:spPr>
          <a:xfrm>
            <a:off x="1066680" y="39600"/>
            <a:ext cx="7193160" cy="660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-33480" y="0"/>
            <a:ext cx="9177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Diagrama 1" descr=""/>
          <p:cNvPicPr/>
          <p:nvPr/>
        </p:nvPicPr>
        <p:blipFill>
          <a:blip r:embed="rId1"/>
          <a:srcRect l="0" t="0" r="0" b="-2312"/>
          <a:stretch/>
        </p:blipFill>
        <p:spPr>
          <a:xfrm>
            <a:off x="1971720" y="0"/>
            <a:ext cx="550224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Rectângulo 2"/>
          <p:cNvSpPr/>
          <p:nvPr/>
        </p:nvSpPr>
        <p:spPr>
          <a:xfrm>
            <a:off x="3495600" y="6257880"/>
            <a:ext cx="120024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ângulo 3"/>
          <p:cNvSpPr/>
          <p:nvPr/>
        </p:nvSpPr>
        <p:spPr>
          <a:xfrm flipH="1">
            <a:off x="4838040" y="6257880"/>
            <a:ext cx="1181160" cy="362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ângulo 4"/>
          <p:cNvSpPr/>
          <p:nvPr/>
        </p:nvSpPr>
        <p:spPr>
          <a:xfrm>
            <a:off x="6162840" y="6276960"/>
            <a:ext cx="1190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800" spc="-1" strike="noStrike">
                <a:solidFill>
                  <a:srgbClr val="000000"/>
                </a:solidFill>
                <a:latin typeface="Open Sans"/>
              </a:rPr>
              <a:t>ide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eta para baixo 5"/>
          <p:cNvSpPr/>
          <p:nvPr/>
        </p:nvSpPr>
        <p:spPr>
          <a:xfrm>
            <a:off x="2533680" y="1724040"/>
            <a:ext cx="162000" cy="333360"/>
          </a:xfrm>
          <a:prstGeom prst="downArrow">
            <a:avLst>
              <a:gd name="adj1" fmla="val 50000"/>
              <a:gd name="adj2" fmla="val 49977"/>
            </a:avLst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05080" y="2130120"/>
            <a:ext cx="7053120" cy="146988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Slides complementare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6994440" cy="17524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17375e"/>
                </a:solidFill>
                <a:latin typeface="Open Sans"/>
              </a:rPr>
              <a:t>A serem usados pelos GCL-PPCIRA que o queiram!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314360" y="1961640"/>
            <a:ext cx="7477200" cy="41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ctr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Fator de Risco =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obabilidade (frequência) </a:t>
            </a: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x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 impacto (severidade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s dados de incidência da infeção resultantes da VE nacional, regional e local dá uma ideia da probabilidade ou frequência e os relatórios de incidentes/eventos advers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 auditorias às práticas de CI dá-nos informação da frequência das falhas relativamente aos procedimentos clínicos, de acordo com as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guidelines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5800" indent="-3258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valiação do risco: dá-nos a informação do impacto e severidade da doença nos indivíduos (doentes, visitantes, profissionais de saúde…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Programa de controlo de infeção no Hospital – Ex. de um método de Avaliação do Risco de Infeção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1600200"/>
          <a:ext cx="8229600" cy="45752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10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índrom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Microrganis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everidade da infe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População em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Vulnerabi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O PCI está preparado para gerir o problema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 </a:t>
                      </a:r>
                      <a:r>
                        <a:rPr b="1" lang="pt-PT" sz="9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se melhor preparado = score + baixo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1-5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core do Risc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0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(A severidade é determinada multiplicando os score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L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RS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C. diffici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fluen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A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91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ESBL/outros MM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93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nfeção uriná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V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22" name="Rectângulo 4"/>
          <p:cNvSpPr/>
          <p:nvPr/>
        </p:nvSpPr>
        <p:spPr>
          <a:xfrm>
            <a:off x="581040" y="6134040"/>
            <a:ext cx="819144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Fonte: webeer SG et al: “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Healthcare associated infections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”. Oxford university Press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Matriz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4" name=""/>
          <p:cNvGraphicFramePr/>
          <p:nvPr/>
        </p:nvGraphicFramePr>
        <p:xfrm>
          <a:off x="380880" y="2270160"/>
          <a:ext cx="7848720" cy="3108240"/>
        </p:xfrm>
        <a:graphic>
          <a:graphicData uri="http://schemas.openxmlformats.org/drawingml/2006/table">
            <a:tbl>
              <a:tblPr/>
              <a:tblGrid>
                <a:gridCol w="1408320"/>
                <a:gridCol w="1293840"/>
                <a:gridCol w="1222200"/>
                <a:gridCol w="1308240"/>
                <a:gridCol w="1307880"/>
                <a:gridCol w="1308240"/>
              </a:tblGrid>
              <a:tr h="5180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robabilidad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Frequência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3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Irrelevante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ino</a:t>
                      </a: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/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aj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Quase  cer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rov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Possíve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 1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7311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Não prováve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.000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Severo/Gr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5180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ar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1:100.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oder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o/Elev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</a:tbl>
          </a:graphicData>
        </a:graphic>
      </p:graphicFrame>
      <p:sp>
        <p:nvSpPr>
          <p:cNvPr id="225" name="Chamada com seta para baixo 4"/>
          <p:cNvSpPr/>
          <p:nvPr/>
        </p:nvSpPr>
        <p:spPr>
          <a:xfrm rot="2860800">
            <a:off x="7202160" y="1304640"/>
            <a:ext cx="1847880" cy="1069920"/>
          </a:xfrm>
          <a:prstGeom prst="downArrowCallout">
            <a:avLst>
              <a:gd name="adj1" fmla="val 24997"/>
              <a:gd name="adj2" fmla="val 25003"/>
              <a:gd name="adj3" fmla="val 25000"/>
              <a:gd name="adj4" fmla="val 64977"/>
            </a:avLst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Alta Priorida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Identificar os recursos onde o risco é &gt; elev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333360" y="5479920"/>
          <a:ext cx="7867800" cy="1096920"/>
        </p:xfrm>
        <a:graphic>
          <a:graphicData uri="http://schemas.openxmlformats.org/drawingml/2006/table">
            <a:tbl>
              <a:tblPr/>
              <a:tblGrid>
                <a:gridCol w="3933720"/>
                <a:gridCol w="3934080"/>
              </a:tblGrid>
              <a:tr h="5486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E: risco severo/gr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medidas imediat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: risco alto/elev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priorização das medi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48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M: risco moderad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medidas planea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6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: risco baix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Requer PBC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ad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ângulo 17"/>
          <p:cNvSpPr/>
          <p:nvPr/>
        </p:nvSpPr>
        <p:spPr>
          <a:xfrm>
            <a:off x="0" y="876240"/>
            <a:ext cx="9144000" cy="5981760"/>
          </a:xfrm>
          <a:prstGeom prst="rect">
            <a:avLst/>
          </a:prstGeom>
          <a:solidFill>
            <a:srgbClr val="c6d9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1724040" y="2009880"/>
          <a:ext cx="5952960" cy="3520800"/>
        </p:xfrm>
        <a:graphic>
          <a:graphicData uri="http://schemas.openxmlformats.org/drawingml/2006/table">
            <a:tbl>
              <a:tblPr/>
              <a:tblGrid>
                <a:gridCol w="2976480"/>
                <a:gridCol w="2976480"/>
              </a:tblGrid>
              <a:tr h="1554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C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ão por reutilização de seringas/agulha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e46c0a"/>
                    </a:solidFill>
                  </a:tcPr>
                </a:tc>
              </a:tr>
              <a:tr h="1966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ões associadas à roupa hospitalar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ac09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Baixa severida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Alta frequênc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400" spc="-1" strike="noStrike">
                          <a:solidFill>
                            <a:srgbClr val="000000"/>
                          </a:solidFill>
                          <a:latin typeface="Open Sans"/>
                        </a:rPr>
                        <a:t>(Infeção urinária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5b5"/>
                    </a:solidFill>
                  </a:tcPr>
                </a:tc>
              </a:tr>
            </a:tbl>
          </a:graphicData>
        </a:graphic>
      </p:graphicFrame>
      <p:sp>
        <p:nvSpPr>
          <p:cNvPr id="230" name="Rectângulo 5"/>
          <p:cNvSpPr/>
          <p:nvPr/>
        </p:nvSpPr>
        <p:spPr>
          <a:xfrm>
            <a:off x="3362400" y="5838840"/>
            <a:ext cx="2905200" cy="47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FREQUÊN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ângulo 6"/>
          <p:cNvSpPr/>
          <p:nvPr/>
        </p:nvSpPr>
        <p:spPr>
          <a:xfrm>
            <a:off x="885960" y="5572080"/>
            <a:ext cx="82872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Baix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ângulo 7"/>
          <p:cNvSpPr/>
          <p:nvPr/>
        </p:nvSpPr>
        <p:spPr>
          <a:xfrm>
            <a:off x="7772400" y="5438880"/>
            <a:ext cx="723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ângulo 8"/>
          <p:cNvSpPr/>
          <p:nvPr/>
        </p:nvSpPr>
        <p:spPr>
          <a:xfrm>
            <a:off x="971640" y="1657440"/>
            <a:ext cx="723960" cy="31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ectângulo 9"/>
          <p:cNvSpPr/>
          <p:nvPr/>
        </p:nvSpPr>
        <p:spPr>
          <a:xfrm>
            <a:off x="685800" y="2095560"/>
            <a:ext cx="390600" cy="3390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e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Conexão recta unidireccional 11"/>
          <p:cNvCxnSpPr/>
          <p:nvPr/>
        </p:nvCxnSpPr>
        <p:spPr>
          <a:xfrm flipV="1">
            <a:off x="1238040" y="2009160"/>
            <a:ext cx="38520" cy="34009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36" name="Conexão recta unidireccional 16"/>
          <p:cNvCxnSpPr/>
          <p:nvPr/>
        </p:nvCxnSpPr>
        <p:spPr>
          <a:xfrm flipV="1">
            <a:off x="1809360" y="5695200"/>
            <a:ext cx="5915880" cy="104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Conceit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257120" y="1904760"/>
            <a:ext cx="742932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valiação do Risco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 (Risk assessment)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um processo sistémico de avaliação e integração do juízo clínico/profissional, sobre as condições adversas e/ou eventos adversos, relevantes para a infeçã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 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Gestão do Risco (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Risk management)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é a identificação, avaliação e priorização dos riscos associados aos cuidados de saúde, seguido de boa gestão coordenada e económica dos recursos, para minimizar, monitorizar e controlar a probabilidade e/ou impacto dos eventos adversos com implicações na infeção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11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ângulo 17"/>
          <p:cNvSpPr/>
          <p:nvPr/>
        </p:nvSpPr>
        <p:spPr>
          <a:xfrm>
            <a:off x="0" y="876240"/>
            <a:ext cx="9144000" cy="59817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1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39" name="Rectângulo 9"/>
          <p:cNvSpPr/>
          <p:nvPr/>
        </p:nvSpPr>
        <p:spPr>
          <a:xfrm>
            <a:off x="923760" y="1104840"/>
            <a:ext cx="343080" cy="497196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dad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ã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ffffff"/>
                </a:solidFill>
                <a:latin typeface="Open Sans"/>
              </a:rPr>
              <a:t>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Conexão recta unidireccional 11"/>
          <p:cNvCxnSpPr/>
          <p:nvPr/>
        </p:nvCxnSpPr>
        <p:spPr>
          <a:xfrm flipV="1">
            <a:off x="1361880" y="1266120"/>
            <a:ext cx="29160" cy="4677480"/>
          </a:xfrm>
          <a:prstGeom prst="straightConnector1">
            <a:avLst/>
          </a:prstGeom>
          <a:ln w="28440">
            <a:solidFill>
              <a:srgbClr val="17375e"/>
            </a:solidFill>
            <a:miter/>
            <a:tailEnd len="med" type="triangle" w="med"/>
          </a:ln>
        </p:spPr>
      </p:cxnSp>
      <p:sp>
        <p:nvSpPr>
          <p:cNvPr id="241" name="Fluxograma: extrair 13"/>
          <p:cNvSpPr/>
          <p:nvPr/>
        </p:nvSpPr>
        <p:spPr>
          <a:xfrm>
            <a:off x="1352520" y="1104840"/>
            <a:ext cx="5638680" cy="4934160"/>
          </a:xfrm>
          <a:prstGeom prst="flowChartExtra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ângulo arredondado 14"/>
          <p:cNvSpPr/>
          <p:nvPr/>
        </p:nvSpPr>
        <p:spPr>
          <a:xfrm>
            <a:off x="6381720" y="2133720"/>
            <a:ext cx="2400480" cy="971280"/>
          </a:xfrm>
          <a:prstGeom prst="roundRect">
            <a:avLst>
              <a:gd name="adj" fmla="val 16667"/>
            </a:avLst>
          </a:prstGeom>
          <a:solidFill>
            <a:srgbClr val="e46c0a"/>
          </a:solidFill>
          <a:ln w="381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Alta para implementação </a:t>
            </a: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(medidas custo-efe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ectângulo arredondado 18"/>
          <p:cNvSpPr/>
          <p:nvPr/>
        </p:nvSpPr>
        <p:spPr>
          <a:xfrm>
            <a:off x="6524640" y="3467160"/>
            <a:ext cx="2324160" cy="971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Intermédi</a:t>
            </a: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(usar o bom sens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ângulo arredondado 19"/>
          <p:cNvSpPr/>
          <p:nvPr/>
        </p:nvSpPr>
        <p:spPr>
          <a:xfrm>
            <a:off x="6943680" y="4896000"/>
            <a:ext cx="2028960" cy="74268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dade Baix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(medidas </a:t>
            </a:r>
            <a:r>
              <a:rPr b="1" lang="pt-PT" sz="1200" spc="-1" strike="noStrike">
                <a:solidFill>
                  <a:srgbClr val="000000"/>
                </a:solidFill>
                <a:latin typeface="Open Sans"/>
              </a:rPr>
              <a:t>não </a:t>
            </a: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custo-efetiva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Conexão recta 21"/>
          <p:cNvSpPr/>
          <p:nvPr/>
        </p:nvSpPr>
        <p:spPr>
          <a:xfrm>
            <a:off x="2924280" y="3409920"/>
            <a:ext cx="25146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Conexão recta 25"/>
          <p:cNvSpPr/>
          <p:nvPr/>
        </p:nvSpPr>
        <p:spPr>
          <a:xfrm>
            <a:off x="2095560" y="4743360"/>
            <a:ext cx="4143240" cy="381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ângulo 31"/>
          <p:cNvSpPr/>
          <p:nvPr/>
        </p:nvSpPr>
        <p:spPr>
          <a:xfrm>
            <a:off x="3295800" y="2705040"/>
            <a:ext cx="1733400" cy="571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maj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al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baix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ângulo 33"/>
          <p:cNvSpPr/>
          <p:nvPr/>
        </p:nvSpPr>
        <p:spPr>
          <a:xfrm>
            <a:off x="2800440" y="3638520"/>
            <a:ext cx="2590560" cy="600120"/>
          </a:xfrm>
          <a:prstGeom prst="rect">
            <a:avLst/>
          </a:prstGeom>
          <a:solidFill>
            <a:srgbClr val="f7964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mode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intermé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: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 modera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ângulo 34"/>
          <p:cNvSpPr/>
          <p:nvPr/>
        </p:nvSpPr>
        <p:spPr>
          <a:xfrm>
            <a:off x="2200320" y="4933800"/>
            <a:ext cx="3828960" cy="6001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Severidade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: </a:t>
            </a:r>
            <a:r>
              <a:rPr b="0" i="1" lang="pt-PT" sz="1400" spc="-1" strike="noStrike">
                <a:solidFill>
                  <a:srgbClr val="000000"/>
                </a:solidFill>
                <a:latin typeface="Open Sans"/>
              </a:rPr>
              <a:t>min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Frequência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baix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400" spc="-1" strike="noStrike">
                <a:solidFill>
                  <a:srgbClr val="000000"/>
                </a:solidFill>
                <a:latin typeface="Open Sans"/>
              </a:rPr>
              <a:t>Custo</a:t>
            </a: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: al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0" name="Conexão recta unidireccional 36"/>
          <p:cNvCxnSpPr/>
          <p:nvPr/>
        </p:nvCxnSpPr>
        <p:spPr>
          <a:xfrm flipV="1">
            <a:off x="5133960" y="2818800"/>
            <a:ext cx="1239120" cy="19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1" name="Conexão recta unidireccional 38"/>
          <p:cNvCxnSpPr/>
          <p:nvPr/>
        </p:nvCxnSpPr>
        <p:spPr>
          <a:xfrm flipV="1">
            <a:off x="5791320" y="3933000"/>
            <a:ext cx="705240" cy="10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52" name="Conexão recta unidireccional 40"/>
          <p:cNvCxnSpPr>
            <a:endCxn id="244" idx="1"/>
          </p:cNvCxnSpPr>
          <p:nvPr/>
        </p:nvCxnSpPr>
        <p:spPr>
          <a:xfrm>
            <a:off x="6552720" y="5266800"/>
            <a:ext cx="3913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18880"/>
            <a:ext cx="8229600" cy="64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Controlar o Risco: Pensar nas soluções possíveis!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4" name="Rectângulo 20"/>
          <p:cNvSpPr/>
          <p:nvPr/>
        </p:nvSpPr>
        <p:spPr>
          <a:xfrm>
            <a:off x="1409760" y="1693800"/>
            <a:ext cx="7381800" cy="64260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EVIT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. Não reutilizar agulhas/sering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eta para baixo 22"/>
          <p:cNvSpPr/>
          <p:nvPr/>
        </p:nvSpPr>
        <p:spPr>
          <a:xfrm>
            <a:off x="4657680" y="2333520"/>
            <a:ext cx="228600" cy="428760"/>
          </a:xfrm>
          <a:prstGeom prst="downArrow">
            <a:avLst>
              <a:gd name="adj1" fmla="val 50000"/>
              <a:gd name="adj2" fmla="val 5001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ângulo 23"/>
          <p:cNvSpPr/>
          <p:nvPr/>
        </p:nvSpPr>
        <p:spPr>
          <a:xfrm>
            <a:off x="1476360" y="2760840"/>
            <a:ext cx="7296120" cy="91692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MINIMIZ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Reduzir o risco apostando na formação e treino nas PBCI e técnica assét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ângulo 24"/>
          <p:cNvSpPr/>
          <p:nvPr/>
        </p:nvSpPr>
        <p:spPr>
          <a:xfrm>
            <a:off x="1457280" y="4160880"/>
            <a:ext cx="7400880" cy="1191240"/>
          </a:xfrm>
          <a:prstGeom prst="rect">
            <a:avLst/>
          </a:prstGeom>
          <a:solidFill>
            <a:srgbClr val="b9cd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CONTRIBUIR para AUMENTAR o RISCO de INFEÇÃO CRUZAD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Transferir o risco para serviços preparados: apostar na centralização da esterilização e na gestão integrada dos resídu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ectângulo 26"/>
          <p:cNvSpPr/>
          <p:nvPr/>
        </p:nvSpPr>
        <p:spPr>
          <a:xfrm>
            <a:off x="1476360" y="5446800"/>
            <a:ext cx="7362720" cy="916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</a:rPr>
              <a:t>PODE-SE ACEITAR o RISC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Ex: Aceitar o risco a um nível não prejudicial -  i.é., com baixo risco, mas com intervenções enérgicas e custo-eficaz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eta para baixo 27"/>
          <p:cNvSpPr/>
          <p:nvPr/>
        </p:nvSpPr>
        <p:spPr>
          <a:xfrm>
            <a:off x="4714920" y="3714840"/>
            <a:ext cx="218880" cy="409320"/>
          </a:xfrm>
          <a:prstGeom prst="downArrow">
            <a:avLst>
              <a:gd name="adj1" fmla="val 50000"/>
              <a:gd name="adj2" fmla="val 50015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eta para baixo 28"/>
          <p:cNvSpPr/>
          <p:nvPr/>
        </p:nvSpPr>
        <p:spPr>
          <a:xfrm>
            <a:off x="4686480" y="5280120"/>
            <a:ext cx="223560" cy="1587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723960" y="133200"/>
            <a:ext cx="82296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Fases da Avaliação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2" name="Rectângulo 7"/>
          <p:cNvSpPr/>
          <p:nvPr/>
        </p:nvSpPr>
        <p:spPr>
          <a:xfrm>
            <a:off x="3048120" y="876240"/>
            <a:ext cx="3743280" cy="19623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Open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  <a:ea typeface="Arial"/>
              </a:rPr>
              <a:t>Identificar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Identificar riscos/perig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Avaliar quem pode ser atingido (doentes, visitas, profissionais, comunidad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Quantificar o risco obtendo informação da frequência (probabilidade) e impacto nos indivídu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264" name="Rectângulo 11"/>
          <p:cNvSpPr/>
          <p:nvPr/>
        </p:nvSpPr>
        <p:spPr>
          <a:xfrm>
            <a:off x="6381720" y="3181320"/>
            <a:ext cx="2486160" cy="1438200"/>
          </a:xfrm>
          <a:prstGeom prst="rect">
            <a:avLst/>
          </a:prstGeom>
          <a:solidFill>
            <a:srgbClr val="f79646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2. Analisar os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edir os potenciais impact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gistar os eventos/infeçõ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Desenvolver uma Matriz de Risc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Rectângulo 12"/>
          <p:cNvSpPr/>
          <p:nvPr/>
        </p:nvSpPr>
        <p:spPr>
          <a:xfrm>
            <a:off x="447840" y="2971800"/>
            <a:ext cx="2199960" cy="1924200"/>
          </a:xfrm>
          <a:prstGeom prst="rect">
            <a:avLst/>
          </a:prstGeom>
          <a:solidFill>
            <a:srgbClr val="c3d69b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4. Monitorizar os Risc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onitorizar o risco e reavali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ver o plano para eliminar e/ou reduzir o risco para o mínim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ângulo 13"/>
          <p:cNvSpPr/>
          <p:nvPr/>
        </p:nvSpPr>
        <p:spPr>
          <a:xfrm>
            <a:off x="3657600" y="5210280"/>
            <a:ext cx="2943360" cy="1485720"/>
          </a:xfrm>
          <a:prstGeom prst="rect">
            <a:avLst/>
          </a:prstGeom>
          <a:solidFill>
            <a:srgbClr val="e46c0a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3. Implementar medidas de Contro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Avaliar e priorizar as medidas, baseadas na severidade, frequência e custo-eficá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Chamada com seta para a esquerda 14"/>
          <p:cNvSpPr/>
          <p:nvPr/>
        </p:nvSpPr>
        <p:spPr>
          <a:xfrm>
            <a:off x="2685960" y="2971800"/>
            <a:ext cx="3476880" cy="1914480"/>
          </a:xfrm>
          <a:prstGeom prst="leftArrowCallout">
            <a:avLst>
              <a:gd name="adj1" fmla="val 25002"/>
              <a:gd name="adj2" fmla="val 25000"/>
              <a:gd name="adj3" fmla="val 25005"/>
              <a:gd name="adj4" fmla="val 64983"/>
            </a:avLst>
          </a:prstGeom>
          <a:solidFill>
            <a:srgbClr val="dbeef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Relatar e dar</a:t>
            </a:r>
            <a:r>
              <a:rPr b="0" i="1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 feedback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às pessoas alvo na unidade de saúd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ffffff"/>
                </a:solidFill>
                <a:latin typeface="Aparajita"/>
                <a:ea typeface="Aparajita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Aparajita"/>
                <a:ea typeface="Aparajita"/>
              </a:rPr>
              <a:t>Monitorizar, para assegurar o cumprimento dos planos de ação, através de auditorias internas e de VE da infe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eta em curva 15"/>
          <p:cNvSpPr/>
          <p:nvPr/>
        </p:nvSpPr>
        <p:spPr>
          <a:xfrm>
            <a:off x="1371600" y="1104840"/>
            <a:ext cx="1676520" cy="1847880"/>
          </a:xfrm>
          <a:custGeom>
            <a:avLst/>
            <a:gdLst/>
            <a:ahLst/>
            <a:rect l="l" t="t" r="r" b="b"/>
            <a:pathLst>
              <a:path w="1676400" h="1847850">
                <a:moveTo>
                  <a:pt x="0" y="1847850"/>
                </a:moveTo>
                <a:lnTo>
                  <a:pt x="0" y="942975"/>
                </a:lnTo>
                <a:cubicBezTo>
                  <a:pt x="0" y="537916"/>
                  <a:pt x="328366" y="209550"/>
                  <a:pt x="733425" y="209550"/>
                </a:cubicBezTo>
                <a:lnTo>
                  <a:pt x="1257300" y="209550"/>
                </a:lnTo>
                <a:lnTo>
                  <a:pt x="1257300" y="0"/>
                </a:lnTo>
                <a:lnTo>
                  <a:pt x="1676400" y="419100"/>
                </a:lnTo>
                <a:lnTo>
                  <a:pt x="1257300" y="838200"/>
                </a:lnTo>
                <a:lnTo>
                  <a:pt x="1257300" y="628650"/>
                </a:lnTo>
                <a:lnTo>
                  <a:pt x="733425" y="628650"/>
                </a:lnTo>
                <a:cubicBezTo>
                  <a:pt x="559828" y="628650"/>
                  <a:pt x="419100" y="769378"/>
                  <a:pt x="419100" y="942975"/>
                </a:cubicBezTo>
                <a:lnTo>
                  <a:pt x="419100" y="1847850"/>
                </a:lnTo>
                <a:lnTo>
                  <a:pt x="0" y="184785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eta em curva 17"/>
          <p:cNvSpPr/>
          <p:nvPr/>
        </p:nvSpPr>
        <p:spPr>
          <a:xfrm rot="5400000">
            <a:off x="6905160" y="1238040"/>
            <a:ext cx="1828800" cy="2019240"/>
          </a:xfrm>
          <a:custGeom>
            <a:avLst/>
            <a:gdLst/>
            <a:ahLst/>
            <a:rect l="l" t="t" r="r" b="b"/>
            <a:pathLst>
              <a:path w="1828800" h="2019300">
                <a:moveTo>
                  <a:pt x="0" y="2019300"/>
                </a:moveTo>
                <a:lnTo>
                  <a:pt x="0" y="1028700"/>
                </a:lnTo>
                <a:cubicBezTo>
                  <a:pt x="0" y="586817"/>
                  <a:pt x="358217" y="228600"/>
                  <a:pt x="800100" y="228600"/>
                </a:cubicBezTo>
                <a:lnTo>
                  <a:pt x="1371600" y="228600"/>
                </a:lnTo>
                <a:lnTo>
                  <a:pt x="1371600" y="0"/>
                </a:lnTo>
                <a:lnTo>
                  <a:pt x="1828800" y="457200"/>
                </a:lnTo>
                <a:lnTo>
                  <a:pt x="1371600" y="914400"/>
                </a:lnTo>
                <a:lnTo>
                  <a:pt x="1371600" y="685800"/>
                </a:lnTo>
                <a:lnTo>
                  <a:pt x="800100" y="685800"/>
                </a:lnTo>
                <a:cubicBezTo>
                  <a:pt x="610722" y="685800"/>
                  <a:pt x="457200" y="839322"/>
                  <a:pt x="457200" y="1028700"/>
                </a:cubicBezTo>
                <a:lnTo>
                  <a:pt x="457200" y="2019300"/>
                </a:lnTo>
                <a:lnTo>
                  <a:pt x="0" y="20193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Seta em curva 19"/>
          <p:cNvSpPr/>
          <p:nvPr/>
        </p:nvSpPr>
        <p:spPr>
          <a:xfrm rot="10800000">
            <a:off x="6600600" y="4609800"/>
            <a:ext cx="1933560" cy="1942920"/>
          </a:xfrm>
          <a:custGeom>
            <a:avLst/>
            <a:gdLst/>
            <a:ahLst/>
            <a:rect l="l" t="t" r="r" b="b"/>
            <a:pathLst>
              <a:path w="1933575" h="1943100">
                <a:moveTo>
                  <a:pt x="0" y="1943100"/>
                </a:moveTo>
                <a:lnTo>
                  <a:pt x="0" y="1087636"/>
                </a:lnTo>
                <a:cubicBezTo>
                  <a:pt x="0" y="620437"/>
                  <a:pt x="378740" y="241697"/>
                  <a:pt x="845939" y="241697"/>
                </a:cubicBezTo>
                <a:lnTo>
                  <a:pt x="1450181" y="241697"/>
                </a:lnTo>
                <a:lnTo>
                  <a:pt x="1450181" y="0"/>
                </a:lnTo>
                <a:lnTo>
                  <a:pt x="1933575" y="483394"/>
                </a:lnTo>
                <a:lnTo>
                  <a:pt x="1450181" y="966788"/>
                </a:lnTo>
                <a:lnTo>
                  <a:pt x="1450181" y="725091"/>
                </a:lnTo>
                <a:lnTo>
                  <a:pt x="845939" y="725091"/>
                </a:lnTo>
                <a:cubicBezTo>
                  <a:pt x="645711" y="725091"/>
                  <a:pt x="483394" y="887408"/>
                  <a:pt x="483394" y="1087636"/>
                </a:cubicBezTo>
                <a:lnTo>
                  <a:pt x="483394" y="1943100"/>
                </a:lnTo>
                <a:lnTo>
                  <a:pt x="0" y="1943100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Seta em curva 20"/>
          <p:cNvSpPr/>
          <p:nvPr/>
        </p:nvSpPr>
        <p:spPr>
          <a:xfrm rot="16200000">
            <a:off x="1485720" y="4228560"/>
            <a:ext cx="1476360" cy="2790720"/>
          </a:xfrm>
          <a:custGeom>
            <a:avLst/>
            <a:gdLst/>
            <a:ahLst/>
            <a:rect l="l" t="t" r="r" b="b"/>
            <a:pathLst>
              <a:path w="1476375" h="2790825">
                <a:moveTo>
                  <a:pt x="0" y="2790825"/>
                </a:moveTo>
                <a:lnTo>
                  <a:pt x="0" y="830461"/>
                </a:lnTo>
                <a:cubicBezTo>
                  <a:pt x="0" y="473733"/>
                  <a:pt x="289186" y="184547"/>
                  <a:pt x="645914" y="184547"/>
                </a:cubicBezTo>
                <a:lnTo>
                  <a:pt x="1107281" y="184547"/>
                </a:lnTo>
                <a:lnTo>
                  <a:pt x="1107281" y="0"/>
                </a:lnTo>
                <a:lnTo>
                  <a:pt x="1476375" y="369094"/>
                </a:lnTo>
                <a:lnTo>
                  <a:pt x="1107281" y="738188"/>
                </a:lnTo>
                <a:lnTo>
                  <a:pt x="1107281" y="553641"/>
                </a:lnTo>
                <a:lnTo>
                  <a:pt x="645914" y="553641"/>
                </a:lnTo>
                <a:cubicBezTo>
                  <a:pt x="493031" y="553641"/>
                  <a:pt x="369094" y="677578"/>
                  <a:pt x="369094" y="830461"/>
                </a:cubicBezTo>
                <a:lnTo>
                  <a:pt x="369094" y="2790825"/>
                </a:lnTo>
                <a:lnTo>
                  <a:pt x="0" y="2790825"/>
                </a:lnTo>
                <a:close/>
              </a:path>
            </a:pathLst>
          </a:custGeom>
          <a:solidFill>
            <a:srgbClr val="95b3d7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1. Características/Tipo de Microrganismo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95200" y="762120"/>
            <a:ext cx="8391600" cy="5364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Perigosidade dos agentes biológicos Grupos (1-4)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–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Estirpes sensíveis, 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versus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 multirresistentes: MDR/XDR-TB, CRE, VRE, MRSA,ESBL,VISA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-Virulência entre algumas espécies: </a:t>
            </a:r>
            <a:r>
              <a:rPr b="1" i="1" lang="pt-PT" sz="1000" spc="-1" strike="noStrike">
                <a:solidFill>
                  <a:srgbClr val="000000"/>
                </a:solidFill>
                <a:latin typeface="Open Sans"/>
              </a:rPr>
              <a:t>C.difficile-</a:t>
            </a:r>
            <a:r>
              <a:rPr b="1" lang="pt-PT" sz="1000" spc="-1" strike="noStrike">
                <a:solidFill>
                  <a:srgbClr val="000000"/>
                </a:solidFill>
                <a:latin typeface="Open Sans"/>
              </a:rPr>
              <a:t>estirpe hipervirulenta 027</a:t>
            </a:r>
            <a:endParaRPr b="0" lang="en-US" sz="1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349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Open Sans"/>
            </a:endParaRPr>
          </a:p>
        </p:txBody>
      </p:sp>
      <p:graphicFrame>
        <p:nvGraphicFramePr>
          <p:cNvPr id="274" name=""/>
          <p:cNvGraphicFramePr/>
          <p:nvPr/>
        </p:nvGraphicFramePr>
        <p:xfrm>
          <a:off x="181080" y="1368360"/>
          <a:ext cx="8839080" cy="5435640"/>
        </p:xfrm>
        <a:graphic>
          <a:graphicData uri="http://schemas.openxmlformats.org/drawingml/2006/table">
            <a:tbl>
              <a:tblPr/>
              <a:tblGrid>
                <a:gridCol w="1093680"/>
                <a:gridCol w="4503600"/>
                <a:gridCol w="324180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Grupo de risc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Severidade da doença (morbilidade/mortalidad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PT" sz="1200" spc="-1" strike="noStrike">
                          <a:solidFill>
                            <a:srgbClr val="ffffff"/>
                          </a:solidFill>
                          <a:latin typeface="Open Sans"/>
                        </a:rPr>
                        <a:t>Exempl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Não  é provável  que cause doença nos human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ode causar doença nos humanos, incluindo doença profissional; Não é provável  que ocorra transmissão para a comunidade;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lostridium diffici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taphylococcus aure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Bordetella pertus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Neisseria meningiCd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Varicella zos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arotidi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Pode causar doença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evera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 nos humanos, e é um problema sério para os  profissionais; Pode ocorrer transmissão para a comunidade;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almonella typ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E. coli O157/0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M. tuberculo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hlamydia psittac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Hepatites B e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Gru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Causa doença </a:t>
                      </a:r>
                      <a:r>
                        <a:rPr b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severa</a:t>
                      </a:r>
                      <a:r>
                        <a:rPr b="0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 nos humanos, é um problema sério para os  profissionais; É expectável a transmissão para a comunidade; Não há habitualmente profilaxia/tratamento efetiv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Febre Viral Hemorragica: Lassa, Ebola, Marburg, Crimean/Congo, febre hemorrágica;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• </a:t>
                      </a:r>
                      <a:r>
                        <a:rPr b="0" i="1" lang="pt-PT" sz="1800" spc="-1" strike="noStrike">
                          <a:solidFill>
                            <a:srgbClr val="000000"/>
                          </a:solidFill>
                          <a:latin typeface="Aparajita"/>
                          <a:ea typeface="Aparajita"/>
                        </a:rPr>
                        <a:t>Varío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37600"/>
            <a:ext cx="822960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2. Severidade das Infeções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085760" y="1886040"/>
            <a:ext cx="7601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Colonização – sub-infeção – infeção severa – morte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MRSA, com eczema severo – risco de dispersã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história de tosse com BK positivo na expetoração – constitui  RISCO ELEVADO de transmissão da tuberculose nosocomial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oente com diarreia: VRE, ESBL, CRE,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C difficle e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tros patogéneos entéricos     constitui  RISCO ELEVADO de  contaminação do ambiente e de infeção cruzad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77" name="Seta para a direita 1"/>
          <p:cNvSpPr/>
          <p:nvPr/>
        </p:nvSpPr>
        <p:spPr>
          <a:xfrm>
            <a:off x="4067280" y="4613400"/>
            <a:ext cx="655560" cy="190440"/>
          </a:xfrm>
          <a:prstGeom prst="rightArrow">
            <a:avLst>
              <a:gd name="adj1" fmla="val 50000"/>
              <a:gd name="adj2" fmla="val 500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eta para a direita 2"/>
          <p:cNvSpPr/>
          <p:nvPr/>
        </p:nvSpPr>
        <p:spPr>
          <a:xfrm>
            <a:off x="5705640" y="2416320"/>
            <a:ext cx="163440" cy="285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eta para baixo 3"/>
          <p:cNvSpPr/>
          <p:nvPr/>
        </p:nvSpPr>
        <p:spPr>
          <a:xfrm>
            <a:off x="8339040" y="2948040"/>
            <a:ext cx="217440" cy="299880"/>
          </a:xfrm>
          <a:prstGeom prst="down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77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Avaliação do risco de infeção: </a:t>
            </a:r>
            <a:br>
              <a:rPr sz="2000"/>
            </a:br>
            <a:r>
              <a:rPr b="1" lang="pt-PT" sz="2000" spc="-1" strike="noStrike">
                <a:solidFill>
                  <a:srgbClr val="000000"/>
                </a:solidFill>
                <a:latin typeface="Open Sans"/>
              </a:rPr>
              <a:t>3. Suscetibilidade do Hospedeiro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085760" y="1886040"/>
            <a:ext cx="7601040" cy="42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- IMUNIDADE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posição prévia a doenças com imunidade duradoura-Ex: Varicela,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Exposição prévia  a doenças de imunidade não duradoura- Ex: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Influenza, Noroviru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História de imunização com vacinas de prevenção. Hep. B, MMR, BCG, etc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IMUNOSSUPRESSÃO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lvl="1" marL="698400" indent="-26856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associada a doença de base ou a quimioterapia/radioterapia/corticoides (altas doses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22200" indent="-3222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152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1" i="1" lang="pt-PT" sz="1600" spc="-1" strike="noStrike">
                <a:solidFill>
                  <a:srgbClr val="000000"/>
                </a:solidFill>
                <a:latin typeface="Open Sans"/>
              </a:rPr>
              <a:t>princípio de Pareto  -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pode ser aplicado ao CI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, para estabelecer prioridades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, com base na estimativa de que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80% dos eventos adversos são geralmente resultado de 20%  das causas.</a:t>
            </a:r>
            <a:br>
              <a:rPr sz="1600"/>
            </a:br>
            <a:br>
              <a:rPr sz="1600"/>
            </a:b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Diagrama de </a:t>
            </a:r>
            <a:r>
              <a:rPr b="1" i="1" lang="pt-PT" sz="1600" spc="-1" strike="noStrike">
                <a:solidFill>
                  <a:srgbClr val="000000"/>
                </a:solidFill>
                <a:latin typeface="Open Sans"/>
              </a:rPr>
              <a:t>Pareto  -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é uma técnica simples par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riorizar potenciais causas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através da 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identificação de problemas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1663560" y="2395440"/>
            <a:ext cx="6896160" cy="43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 txBox="1"/>
          <p:nvPr/>
        </p:nvSpPr>
        <p:spPr>
          <a:xfrm>
            <a:off x="1552320" y="2143080"/>
            <a:ext cx="7351560" cy="398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 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Diagrama de Paret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 ser gerado por aplicações informáticas simples e fáceis de usar: 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pen Office.org Calc.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icrosoft Excel,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• 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tro Software especializad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Open Sans"/>
              </a:rPr>
              <a:t>Links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- http://www.wikihow.com/Create-a‐Pareto‐Chart-in-MS-Excel‐2010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–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http://paretochart.org/paretochartemplateexcel/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PT" sz="2800" spc="-1" strike="noStrike">
                <a:solidFill>
                  <a:srgbClr val="000000"/>
                </a:solidFill>
                <a:latin typeface="Open Sans"/>
              </a:rPr>
              <a:t>Diagrama de Pareto</a:t>
            </a: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, aplicado ao CI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ângulo 1"/>
          <p:cNvSpPr/>
          <p:nvPr/>
        </p:nvSpPr>
        <p:spPr>
          <a:xfrm>
            <a:off x="942840" y="828720"/>
            <a:ext cx="654372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000" spc="-1" strike="noStrike">
                <a:solidFill>
                  <a:srgbClr val="000000"/>
                </a:solidFill>
                <a:latin typeface="Open Sans"/>
              </a:rPr>
              <a:t>Obrigada pela Atençã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4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bordagem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476000" y="2343240"/>
            <a:ext cx="7210440" cy="378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000000"/>
                </a:solidFill>
                <a:latin typeface="Open Sans"/>
              </a:rPr>
              <a:t>Esta abordagem pode ser usada para os eventos/riscos provenientes do ambiente de cuidados de saúde, dos materiais/equipamentos bem como, os riscos relativos aos doentes</a:t>
            </a:r>
            <a:endParaRPr b="0" lang="en-US" sz="2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Fonte: Hubbard D. </a:t>
            </a:r>
            <a:r>
              <a:rPr b="0" i="1" lang="pt-PT" sz="1100" spc="-1" strike="noStrike">
                <a:solidFill>
                  <a:srgbClr val="000000"/>
                </a:solidFill>
                <a:latin typeface="Open Sans"/>
              </a:rPr>
              <a:t>The Failure of Risk Management: Why It's Broken and How to Fix It. </a:t>
            </a:r>
            <a:r>
              <a:rPr b="0" lang="pt-PT" sz="1100" spc="-1" strike="noStrike">
                <a:solidFill>
                  <a:srgbClr val="000000"/>
                </a:solidFill>
                <a:latin typeface="Open Sans"/>
              </a:rPr>
              <a:t>John Wiley &amp; Sons,2009.</a:t>
            </a:r>
            <a:endParaRPr b="0" lang="en-US" sz="11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600" spc="-1" strike="noStrike">
                <a:solidFill>
                  <a:srgbClr val="000000"/>
                </a:solidFill>
                <a:latin typeface="Open Sans"/>
              </a:rPr>
              <a:t>FUNDAMENTOS</a:t>
            </a:r>
            <a:endParaRPr b="0" lang="en-US" sz="36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1241280" y="2184480"/>
            <a:ext cx="7629840" cy="46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0000"/>
                </a:solidFill>
                <a:latin typeface="Open Sans"/>
              </a:rPr>
              <a:t>Avaliação de risco: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cesso que permite determinar o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nível de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gravidade do risco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estimativa formal da probabilidade dos doentes sofrerem lesões/efeitos adversos para a saúde, como consequência de fatores de risco identificados na prestação de cuidados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estabelecer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rioridades </a:t>
            </a: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de intervenção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e os </a:t>
            </a:r>
            <a:r>
              <a:rPr b="1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rocedimentos adequados </a:t>
            </a:r>
            <a:r>
              <a:rPr b="0" lang="pt-PT" sz="2400" spc="-1" strike="noStrike" u="sng">
                <a:solidFill>
                  <a:srgbClr val="000000"/>
                </a:solidFill>
                <a:uFillTx/>
                <a:latin typeface="Open Sans"/>
              </a:rPr>
              <a:t>para a sua gestão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nálise do Risc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63320" y="1036800"/>
            <a:ext cx="8528040" cy="5432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Possíveis causas de falhas no desempenho profissional: 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m ocorrer por um “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ato de omissão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(ex: falha na adesão às práticas de evidência clínica aceites e, podem estar relacionadas com: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o conheciment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a comunicação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ormação e treino insuficientes/inadequados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ha na avaliação/rotura de </a:t>
            </a:r>
            <a:r>
              <a:rPr b="0" i="1" lang="pt-PT" sz="1600" spc="-1" strike="noStrike">
                <a:solidFill>
                  <a:srgbClr val="000000"/>
                </a:solidFill>
                <a:latin typeface="Open Sans"/>
              </a:rPr>
              <a:t>stock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de materiais/produtos de higiene (ex: para as mãos)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odem ocorrer por um “</a:t>
            </a:r>
            <a:r>
              <a:rPr b="1" i="1" lang="pt-PT" sz="1800" spc="-1" strike="noStrike">
                <a:solidFill>
                  <a:srgbClr val="000000"/>
                </a:solidFill>
                <a:latin typeface="Open Sans"/>
              </a:rPr>
              <a:t>ato deliberado</a:t>
            </a:r>
            <a:r>
              <a:rPr b="0" i="1" lang="pt-PT" sz="1800" spc="-1" strike="noStrike">
                <a:solidFill>
                  <a:srgbClr val="000000"/>
                </a:solidFill>
                <a:latin typeface="Open Sans"/>
              </a:rPr>
              <a:t>”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u que não deveria ser cometido e, podem estar relacionadas com: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-  Falta de aceitação das regras de boa prática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    </a:t>
            </a:r>
            <a:r>
              <a:rPr b="0" lang="pt-PT" sz="1600" spc="-1" strike="noStrike">
                <a:solidFill>
                  <a:srgbClr val="000000"/>
                </a:solidFill>
                <a:latin typeface="Open Sans"/>
              </a:rPr>
              <a:t>Falta de consideração pelos outros - …</a:t>
            </a:r>
            <a:r>
              <a:rPr b="1" lang="pt-PT" sz="1600" spc="-1" strike="noStrike">
                <a:solidFill>
                  <a:srgbClr val="000000"/>
                </a:solidFill>
                <a:latin typeface="Open Sans"/>
              </a:rPr>
              <a:t>é uma questão muito mais complexa e que requer um reforço na gestão das situações…</a:t>
            </a: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Análise do Risco de infeção - Falhas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47400" y="2123640"/>
            <a:ext cx="7286760" cy="400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Ocorrem quando não foi compreendida a verdadeira razão do problema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São adotadas soluções incorretas, para problemas reai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Muitas vezes relacionadas com falha de comunicação ou interpretação errada da informaçã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Colocar no terreno um plano de redução de risco, baseado apenas nas evidências -  em vez de baseado, nos problemas reais identificad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1581120" y="1143000"/>
            <a:ext cx="7096320" cy="4610160"/>
          </a:xfrm>
          <a:prstGeom prst="rect">
            <a:avLst/>
          </a:prstGeom>
          <a:ln w="0">
            <a:noFill/>
          </a:ln>
        </p:spPr>
      </p:pic>
      <p:sp>
        <p:nvSpPr>
          <p:cNvPr id="145" name="Rectângulo 2"/>
          <p:cNvSpPr/>
          <p:nvPr/>
        </p:nvSpPr>
        <p:spPr>
          <a:xfrm>
            <a:off x="2057400" y="1209600"/>
            <a:ext cx="2038320" cy="21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Perigo:  Infe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ângulo 3"/>
          <p:cNvSpPr/>
          <p:nvPr/>
        </p:nvSpPr>
        <p:spPr>
          <a:xfrm>
            <a:off x="5981760" y="1247760"/>
            <a:ext cx="235260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Falha ou ausência de defesas, a diversos nívei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ângulo 4"/>
          <p:cNvSpPr/>
          <p:nvPr/>
        </p:nvSpPr>
        <p:spPr>
          <a:xfrm>
            <a:off x="6267600" y="4952880"/>
            <a:ext cx="2333520" cy="88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Erro ou omissão no cumprimento das norma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ângulo 5"/>
          <p:cNvSpPr/>
          <p:nvPr/>
        </p:nvSpPr>
        <p:spPr>
          <a:xfrm>
            <a:off x="1552680" y="5029200"/>
            <a:ext cx="236196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Falhas ativas (pessoas)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300" spc="-1" strike="noStrike">
                <a:solidFill>
                  <a:srgbClr val="000000"/>
                </a:solidFill>
                <a:latin typeface="Open Sans"/>
              </a:rPr>
              <a:t>e condições existentes (sistema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ângulo arredondado 6"/>
          <p:cNvSpPr/>
          <p:nvPr/>
        </p:nvSpPr>
        <p:spPr>
          <a:xfrm>
            <a:off x="1562040" y="2133720"/>
            <a:ext cx="1657440" cy="752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Cultura organizac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não privilegia o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ângulo arredondado 7"/>
          <p:cNvSpPr/>
          <p:nvPr/>
        </p:nvSpPr>
        <p:spPr>
          <a:xfrm>
            <a:off x="1866960" y="3648240"/>
            <a:ext cx="270504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ormação/treino insuficiente, dirigido para as situações prá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ângulo arredondado 8"/>
          <p:cNvSpPr/>
          <p:nvPr/>
        </p:nvSpPr>
        <p:spPr>
          <a:xfrm>
            <a:off x="4305240" y="4705200"/>
            <a:ext cx="1476360" cy="381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300" spc="-1" strike="noStrike">
                <a:solidFill>
                  <a:srgbClr val="000000"/>
                </a:solidFill>
                <a:latin typeface="Open Sans"/>
              </a:rPr>
              <a:t>Falha na motivaçã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ângulo arredondado 9"/>
          <p:cNvSpPr/>
          <p:nvPr/>
        </p:nvSpPr>
        <p:spPr>
          <a:xfrm>
            <a:off x="4905360" y="1866960"/>
            <a:ext cx="1523880" cy="304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Organizac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ângulo arredondado 10"/>
          <p:cNvSpPr/>
          <p:nvPr/>
        </p:nvSpPr>
        <p:spPr>
          <a:xfrm>
            <a:off x="5667480" y="2238480"/>
            <a:ext cx="1523880" cy="304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Técn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ângulo arredondado 11"/>
          <p:cNvSpPr/>
          <p:nvPr/>
        </p:nvSpPr>
        <p:spPr>
          <a:xfrm>
            <a:off x="6391440" y="2924280"/>
            <a:ext cx="1333440" cy="218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Da Equi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ângulo arredondado 12"/>
          <p:cNvSpPr/>
          <p:nvPr/>
        </p:nvSpPr>
        <p:spPr>
          <a:xfrm>
            <a:off x="7115040" y="3591000"/>
            <a:ext cx="1447920" cy="199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000000"/>
                </a:solidFill>
                <a:latin typeface="Open Sans"/>
              </a:rPr>
              <a:t>Individ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ectângulo arredondado 13"/>
          <p:cNvSpPr/>
          <p:nvPr/>
        </p:nvSpPr>
        <p:spPr>
          <a:xfrm>
            <a:off x="2647800" y="4133880"/>
            <a:ext cx="2419560" cy="4665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alha na liderança e de equipas que valorizem o 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ângulo 14"/>
          <p:cNvSpPr/>
          <p:nvPr/>
        </p:nvSpPr>
        <p:spPr>
          <a:xfrm>
            <a:off x="1476360" y="239760"/>
            <a:ext cx="71820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Causas: ‘</a:t>
            </a:r>
            <a:r>
              <a:rPr b="1" i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Modelo queijo suíço</a:t>
            </a:r>
            <a:r>
              <a:rPr b="1" lang="pt-PT" sz="1800" spc="-1" strike="noStrike">
                <a:solidFill>
                  <a:srgbClr val="000000"/>
                </a:solidFill>
                <a:latin typeface="Arial"/>
                <a:ea typeface="Arial"/>
              </a:rPr>
              <a:t>” dos eventos adversos associados à prevenção e controlo da infe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ângulo arredondado 15"/>
          <p:cNvSpPr/>
          <p:nvPr/>
        </p:nvSpPr>
        <p:spPr>
          <a:xfrm>
            <a:off x="1504800" y="3181320"/>
            <a:ext cx="2467080" cy="3808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Open Sans"/>
              </a:rPr>
              <a:t>Falha nos circuitos e processos de prevenção da infe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ângulo 16"/>
          <p:cNvSpPr/>
          <p:nvPr/>
        </p:nvSpPr>
        <p:spPr>
          <a:xfrm>
            <a:off x="371520" y="6076800"/>
            <a:ext cx="8467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000" spc="-1" strike="noStrike">
                <a:solidFill>
                  <a:srgbClr val="000000"/>
                </a:solidFill>
                <a:latin typeface="Arial"/>
                <a:ea typeface="Arial"/>
              </a:rPr>
              <a:t>Fonte: Storr J, Wigglesworth N &amp; Kilpatrick C. Integrating human factors with infecton Prevention and control. The Health Foundation,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Goreti</cp:lastModifiedBy>
  <dcterms:modified xsi:type="dcterms:W3CDTF">2015-05-03T16:02:25Z</dcterms:modified>
  <cp:revision>257</cp:revision>
  <dc:subject/>
  <dc:title>Diapositivo 1</dc:title>
</cp:coreProperties>
</file>